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2F0C-803B-46D1-9955-56C90E9D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D851-B3F6-4A05-8130-B08031DF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98AA-0433-44A4-BD97-D57D3BD6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2C32-7465-43B7-B30B-62782BAB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24AC-4264-4BD0-A3BE-122E3D84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942D-2180-4D66-A191-A424472A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CE1F-010D-42DE-8AF5-A3B5BFCB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DFBE-A584-4FE8-AC33-983AC857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CA02-BB5B-4C27-92C1-E8F47558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7343-0B34-46B8-B55A-6BAF2470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DC62-7484-4B8D-BFA1-9C293483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685B-FD01-48B2-9B48-2EE64A27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2D02-853F-4D30-B06B-974A37D5A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icksteves.com/tms/article.cfm?id=287&amp;extras=false" TargetMode="External"/><Relationship Id="rId2" Type="http://schemas.openxmlformats.org/officeDocument/2006/relationships/hyperlink" Target="http://www.german-way.com/ludwig.html" TargetMode="External"/><Relationship Id="rId3" Type="http://schemas.openxmlformats.org/officeDocument/2006/relationships/hyperlink" Target="http://www.german-way.com/neuschw.html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Beautiful%20views%20from%20Neuschwanstein%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German Cultural Identit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The Castles of Mad Ludwig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520" y="2285640"/>
            <a:ext cx="6248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Anthea Rok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Old Face"/>
              </a:rPr>
              <a:t>English articl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ricksteves.com/tms/article.cfm?id=287&amp;extras=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Old Face"/>
              </a:rPr>
              <a:t>English articl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erman-way.com/ludwig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Old Face"/>
              </a:rPr>
              <a:t>English articl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german-way.com/neusch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445520" cy="498636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1627200" y="62690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humblog.humboldt-institut.org/archives/32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2057400" y="441360"/>
            <a:ext cx="4419720" cy="368280"/>
          </a:xfrm>
          <a:prstGeom prst="rect">
            <a:avLst/>
          </a:prstGeom>
          <a:solidFill>
            <a:srgbClr val="d1d1f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Gothic Std Black"/>
              </a:rPr>
              <a:t>German Students Visit Neuschwans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The Cast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he rich history of these three castles of Mad Ludwig II help define Germany’s cultural id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Ludwig’s castles are classic, romantic, and glori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His castles are located in Bav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hey are very popular with tourists from around Germany and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he castles have towering turrets and are located in striking settings of the Bavarian country-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Neuschwanstein Cast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120" y="1676520"/>
            <a:ext cx="39625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Fairy-tale turrets decorate Neuschwanstein Castle, King Ludwig's alpine retre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his was the inspiration for Dis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876920" y="1295280"/>
            <a:ext cx="342900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Who is Mad Ludwig I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762120" y="1905120"/>
            <a:ext cx="7696080" cy="43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He was born 1845 just outside of Mun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He spent much of his youth in a castle known as Hohenschwangau (“high region of the swan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At age 19 he ascended the thr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He had a love for the Bavarian Alps where he chose to build his cast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He was thought to be shy and odd; his death is a mystery yet to be s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Mad Ludwig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4419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he 1865 coronation of Mad Ludwig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Ludwig II"/>
          <p:cNvPicPr/>
          <p:nvPr/>
        </p:nvPicPr>
        <p:blipFill>
          <a:blip r:embed="rId1"/>
          <a:stretch/>
        </p:blipFill>
        <p:spPr>
          <a:xfrm>
            <a:off x="5257800" y="1447920"/>
            <a:ext cx="32511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How does this affect German cultural ident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he amazing castles shows just some of the history of Germ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Germans take pride in the fantastic work done by their ances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hese are some of the most famous castles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Help define who Germans are; proud of their rich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Currently, they are carefully renovating and fixing Neuschwanstein which shows their pride in history and love of cul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German cultural identity as seen with Neuschwanste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7560" y="5638320"/>
            <a:ext cx="70102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Traditional German dancing outside Newschwan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[Germany+with+Lizzie+4-2009+357.jpg]"/>
          <p:cNvPicPr/>
          <p:nvPr/>
        </p:nvPicPr>
        <p:blipFill>
          <a:blip r:embed="rId1"/>
          <a:stretch/>
        </p:blipFill>
        <p:spPr>
          <a:xfrm>
            <a:off x="1828800" y="160020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838080" y="1600200"/>
            <a:ext cx="7620120" cy="40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Who built the some of the most famous castles in the world; such as Neuschwanste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askerville Old Fac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King George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askerville Old Fac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Mad Ludwig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askerville Old Fac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Queen Elizabeth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2. What is one reason this affects German cultural ident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askerville Old Fac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They take pride and love the history of their anc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askerville Old Fac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914400" y="4876920"/>
            <a:ext cx="45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b. They get free f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c.  They can have car r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47560"/>
            <a:ext cx="228600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247824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2:13:11Z</dcterms:created>
  <dc:creator>SCSadmin</dc:creator>
  <dc:description/>
  <dc:language>en-US</dc:language>
  <cp:lastModifiedBy>SCSadmin</cp:lastModifiedBy>
  <dcterms:modified xsi:type="dcterms:W3CDTF">2012-10-30T11:55:40Z</dcterms:modified>
  <cp:revision>12</cp:revision>
  <dc:subject/>
  <dc:title>The Castles of Mad Ludwig II help define German identity</dc:title>
</cp:coreProperties>
</file>